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8BE-4B85-49B1-9C69-F1645A23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CD5-9235-4453-B54F-B9F32F7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342-7806-4281-8B20-B9ADDD7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97B-886A-4A38-AEDA-1334619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CFC-3CE6-4144-BC64-851D5E3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F55-1AC4-43E8-A24E-ABD73CA3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DC-2876-4A3B-A690-11F3FB5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823-C05F-4E8E-B90E-ABC983A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2A8-AAB0-42B4-8298-61ABB0F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E6B-7B05-45B3-9891-C96B7EB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EEE-D96C-4459-8DE2-B3EEE1CE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A2B-2D19-41D5-9520-69A3B435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4E3-F65D-42BF-82C5-DFF3DCD0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DA1-454C-4BBB-86C9-B6082F9C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FCF-3C92-4295-8F03-80F6114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B425-3158-4C07-ACC0-C8187A7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A050-57FE-48F1-9C23-3F56E8DA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5C6E-D900-4D11-829A-49A4230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2852-9195-4FFF-AF52-24DFB623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2853-8655-4172-98DA-219A81B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5AE-275B-4366-9A4C-DAD2A7E7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4F96-BF1A-4612-BE30-C64E03D7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AE8-2B8A-4DF2-A754-83EEF752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661-EEF8-4F1B-9507-C115D0B0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11" descr="标题.JPG"/>
          <p:cNvPicPr/>
          <p:nvPr/>
        </p:nvPicPr>
        <p:blipFill>
          <a:blip r:embed="rId4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955A-38F4-42ED-8F0C-50BFA709FA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FFC-EA43-4212-BA31-34585E21F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22766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8.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锐角三角函数（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课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602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人民教育出版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476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义务教育课程标准实验教科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九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55640" y="987480"/>
            <a:ext cx="8497800" cy="28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666000" y="65160"/>
            <a:ext cx="4121640" cy="1130400"/>
            <a:chOff x="666000" y="65160"/>
            <a:chExt cx="4121640" cy="1130400"/>
          </a:xfrm>
        </p:grpSpPr>
        <p:sp>
          <p:nvSpPr>
            <p:cNvPr id="135" name="AutoShape 4"/>
            <p:cNvSpPr/>
            <p:nvPr/>
          </p:nvSpPr>
          <p:spPr>
            <a:xfrm rot="17400000">
              <a:off x="2516040" y="-231840"/>
              <a:ext cx="189000" cy="1173240"/>
            </a:xfrm>
            <a:custGeom>
              <a:avLst/>
              <a:gdLst>
                <a:gd name="textAreaLeft" fmla="*/ 25200 w 189000"/>
                <a:gd name="textAreaRight" fmla="*/ 163800 w 189000"/>
                <a:gd name="textAreaTop" fmla="*/ 205200 h 1173240"/>
                <a:gd name="textAreaBottom" fmla="*/ 850680 h 11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 rot="16800000">
              <a:off x="1998360" y="-158400"/>
              <a:ext cx="216000" cy="13392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234360 h 1339200"/>
                <a:gd name="textAreaBottom" fmla="*/ 970920 h 133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20240" y="763560"/>
              <a:ext cx="3767400" cy="43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 rot="16888200">
              <a:off x="1383120" y="-151200"/>
              <a:ext cx="360360" cy="17582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307440 h 1758240"/>
                <a:gd name="textAreaBottom" fmla="*/ 1274760 h 175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776680" y="403200"/>
              <a:ext cx="142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1260360" y="144288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当锐角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确定时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对边与斜边的比就随之确定，此时，其他边之间的比是否也确定了呢？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5148360" y="985680"/>
            <a:ext cx="4392000" cy="2595960"/>
            <a:chOff x="5148360" y="985680"/>
            <a:chExt cx="4392000" cy="2595960"/>
          </a:xfrm>
        </p:grpSpPr>
        <p:sp>
          <p:nvSpPr>
            <p:cNvPr id="142" name="AutoShape 11"/>
            <p:cNvSpPr/>
            <p:nvPr/>
          </p:nvSpPr>
          <p:spPr>
            <a:xfrm flipH="1">
              <a:off x="5434560" y="1382760"/>
              <a:ext cx="2663640" cy="1800000"/>
            </a:xfrm>
            <a:prstGeom prst="rtTriangl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148360" y="3038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7956360" y="9856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7956360" y="3111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6516360" y="318276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邻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8100720" y="21034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对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6229080" y="17780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斜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7884720" y="2967120"/>
              <a:ext cx="21564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684360" y="3870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当锐角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大小确定时，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邻边与斜边的比、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对边与邻边的比也分别是确定的，我们把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邻边与斜边的比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余弦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sine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，记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2916360" y="4516560"/>
                <a:ext cx="280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21"/>
          <p:cNvSpPr/>
          <p:nvPr/>
        </p:nvSpPr>
        <p:spPr>
          <a:xfrm>
            <a:off x="684360" y="52722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把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对边与邻边的比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正切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ngent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，记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2916360" y="5681520"/>
                <a:ext cx="2736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Text Box 23"/>
          <p:cNvSpPr/>
          <p:nvPr/>
        </p:nvSpPr>
        <p:spPr>
          <a:xfrm>
            <a:off x="971640" y="6461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锐角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正弦、余弦、正切都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锐角三角函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219640" y="333360"/>
            <a:ext cx="244944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 境 探 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806400" y="68112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      ，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7272360" y="504720"/>
                <a:ext cx="23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Text Box 4"/>
          <p:cNvSpPr/>
          <p:nvPr/>
        </p:nvSpPr>
        <p:spPr>
          <a:xfrm>
            <a:off x="590400" y="18334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525680" y="1595520"/>
                <a:ext cx="1655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166760" y="2625840"/>
                <a:ext cx="316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7"/>
          <p:cNvSpPr/>
          <p:nvPr/>
        </p:nvSpPr>
        <p:spPr>
          <a:xfrm>
            <a:off x="590400" y="38847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1309680" y="3746520"/>
                <a:ext cx="5184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093680" y="4857840"/>
                <a:ext cx="2519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3759120" y="4784760"/>
                <a:ext cx="2521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11"/>
          <p:cNvGrpSpPr/>
          <p:nvPr/>
        </p:nvGrpSpPr>
        <p:grpSpPr>
          <a:xfrm>
            <a:off x="5867280" y="942840"/>
            <a:ext cx="3225600" cy="2487960"/>
            <a:chOff x="5867280" y="942840"/>
            <a:chExt cx="3225600" cy="2487960"/>
          </a:xfrm>
        </p:grpSpPr>
        <p:sp>
          <p:nvSpPr>
            <p:cNvPr id="166" name="AutoShape 12"/>
            <p:cNvSpPr/>
            <p:nvPr/>
          </p:nvSpPr>
          <p:spPr>
            <a:xfrm flipH="1">
              <a:off x="6226920" y="1303200"/>
              <a:ext cx="2374920" cy="180036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5867280" y="3031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8502480" y="9428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8516520" y="29890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8602560" y="202392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459640" y="2959200"/>
              <a:ext cx="142920" cy="144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8"/>
          <p:cNvSpPr/>
          <p:nvPr/>
        </p:nvSpPr>
        <p:spPr>
          <a:xfrm>
            <a:off x="826920" y="115920"/>
            <a:ext cx="244980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84080" y="836640"/>
            <a:ext cx="82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别求出下列直角三角形中两个锐角的正弦值、余弦值和正切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84080" y="217440"/>
            <a:ext cx="25909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    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11360" y="134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由勾股定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1216080" y="1844640"/>
          <a:ext cx="446400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1844640"/>
                    <a:ext cx="446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6"/>
          <p:cNvGrpSpPr/>
          <p:nvPr/>
        </p:nvGrpSpPr>
        <p:grpSpPr>
          <a:xfrm>
            <a:off x="5608800" y="1197000"/>
            <a:ext cx="4003560" cy="1954440"/>
            <a:chOff x="5608800" y="1197000"/>
            <a:chExt cx="4003560" cy="1954440"/>
          </a:xfrm>
        </p:grpSpPr>
        <p:sp>
          <p:nvSpPr>
            <p:cNvPr id="179" name="Freeform 7"/>
            <p:cNvSpPr/>
            <p:nvPr/>
          </p:nvSpPr>
          <p:spPr>
            <a:xfrm>
              <a:off x="5940720" y="1528920"/>
              <a:ext cx="3108240" cy="1439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9036360" y="27385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5608800" y="25369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6444000" y="119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875640" y="27525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7594920" y="17874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Object 13"/>
          <p:cNvGraphicFramePr/>
          <p:nvPr/>
        </p:nvGraphicFramePr>
        <p:xfrm>
          <a:off x="1360440" y="2421000"/>
          <a:ext cx="244800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0440" y="2421000"/>
                    <a:ext cx="2448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4"/>
          <p:cNvGraphicFramePr/>
          <p:nvPr/>
        </p:nvGraphicFramePr>
        <p:xfrm>
          <a:off x="1430280" y="3284640"/>
          <a:ext cx="2305080" cy="84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30280" y="3284640"/>
                    <a:ext cx="2305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5"/>
          <p:cNvGraphicFramePr/>
          <p:nvPr/>
        </p:nvGraphicFramePr>
        <p:xfrm>
          <a:off x="1353960" y="4365720"/>
          <a:ext cx="2741760" cy="84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3960" y="4365720"/>
                    <a:ext cx="2741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6"/>
          <p:cNvGraphicFramePr/>
          <p:nvPr/>
        </p:nvGraphicFramePr>
        <p:xfrm>
          <a:off x="4875120" y="3860640"/>
          <a:ext cx="2475000" cy="82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5120" y="3860640"/>
                    <a:ext cx="247500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7"/>
          <p:cNvGraphicFramePr/>
          <p:nvPr/>
        </p:nvGraphicFramePr>
        <p:xfrm>
          <a:off x="5045040" y="4724280"/>
          <a:ext cx="227808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4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5040" y="4724280"/>
                    <a:ext cx="2278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8"/>
          <p:cNvGraphicFramePr/>
          <p:nvPr/>
        </p:nvGraphicFramePr>
        <p:xfrm>
          <a:off x="5103720" y="5661000"/>
          <a:ext cx="2741760" cy="84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6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3720" y="5661000"/>
                    <a:ext cx="27417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55640" y="476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如果各边长都扩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，那么锐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正弦值、余弦值和正切值有什么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6397560" y="1916280"/>
            <a:ext cx="1390680" cy="1874880"/>
            <a:chOff x="6397560" y="1916280"/>
            <a:chExt cx="1390680" cy="1874880"/>
          </a:xfrm>
        </p:grpSpPr>
        <p:sp>
          <p:nvSpPr>
            <p:cNvPr id="199" name="Text Box 4"/>
            <p:cNvSpPr/>
            <p:nvPr/>
          </p:nvSpPr>
          <p:spPr>
            <a:xfrm>
              <a:off x="7524720" y="335592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6540480" y="191628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6397560" y="339228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7"/>
            <p:cNvGrpSpPr/>
            <p:nvPr/>
          </p:nvGrpSpPr>
          <p:grpSpPr>
            <a:xfrm>
              <a:off x="6851520" y="2347920"/>
              <a:ext cx="528840" cy="1161720"/>
              <a:chOff x="6851520" y="2347920"/>
              <a:chExt cx="528840" cy="1161720"/>
            </a:xfrm>
          </p:grpSpPr>
          <p:sp>
            <p:nvSpPr>
              <p:cNvPr id="203" name="AutoShape 8"/>
              <p:cNvSpPr/>
              <p:nvPr/>
            </p:nvSpPr>
            <p:spPr>
              <a:xfrm>
                <a:off x="6851520" y="2347920"/>
                <a:ext cx="528840" cy="1161720"/>
              </a:xfrm>
              <a:prstGeom prst="rtTriangl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6851520" y="3422520"/>
                <a:ext cx="65520" cy="87120"/>
              </a:xfrm>
              <a:prstGeom prst="pi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10"/>
          <p:cNvSpPr/>
          <p:nvPr/>
        </p:nvSpPr>
        <p:spPr>
          <a:xfrm>
            <a:off x="973080" y="14112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设各边长分别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三个三角函数分别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835280" y="1916280"/>
          <a:ext cx="3744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3744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2"/>
          <p:cNvSpPr/>
          <p:nvPr/>
        </p:nvSpPr>
        <p:spPr>
          <a:xfrm>
            <a:off x="1547640" y="27795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扩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后三边分别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2106720" y="3211560"/>
          <a:ext cx="237636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6720" y="3211560"/>
                    <a:ext cx="23763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4"/>
          <p:cNvGraphicFramePr/>
          <p:nvPr/>
        </p:nvGraphicFramePr>
        <p:xfrm>
          <a:off x="2163600" y="4435560"/>
          <a:ext cx="240840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4435560"/>
                    <a:ext cx="2408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5"/>
          <p:cNvGraphicFramePr/>
          <p:nvPr/>
        </p:nvGraphicFramePr>
        <p:xfrm>
          <a:off x="2106720" y="5516640"/>
          <a:ext cx="240804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6720" y="5516640"/>
                    <a:ext cx="24080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16"/>
          <p:cNvGrpSpPr/>
          <p:nvPr/>
        </p:nvGrpSpPr>
        <p:grpSpPr>
          <a:xfrm>
            <a:off x="6469200" y="4076640"/>
            <a:ext cx="1847880" cy="2451600"/>
            <a:chOff x="6469200" y="4076640"/>
            <a:chExt cx="1847880" cy="2451600"/>
          </a:xfrm>
        </p:grpSpPr>
        <p:grpSp>
          <p:nvGrpSpPr>
            <p:cNvPr id="216" name="Group 17"/>
            <p:cNvGrpSpPr/>
            <p:nvPr/>
          </p:nvGrpSpPr>
          <p:grpSpPr>
            <a:xfrm>
              <a:off x="6877440" y="4508280"/>
              <a:ext cx="1152000" cy="1871640"/>
              <a:chOff x="6877440" y="4508280"/>
              <a:chExt cx="1152000" cy="1871640"/>
            </a:xfrm>
          </p:grpSpPr>
          <p:sp>
            <p:nvSpPr>
              <p:cNvPr id="217" name="AutoShape 18"/>
              <p:cNvSpPr/>
              <p:nvPr/>
            </p:nvSpPr>
            <p:spPr>
              <a:xfrm>
                <a:off x="6877440" y="4508280"/>
                <a:ext cx="1152000" cy="1871640"/>
              </a:xfrm>
              <a:prstGeom prst="rtTriangl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"/>
              <p:cNvSpPr/>
              <p:nvPr/>
            </p:nvSpPr>
            <p:spPr>
              <a:xfrm>
                <a:off x="6877440" y="6239520"/>
                <a:ext cx="142920" cy="140400"/>
              </a:xfrm>
              <a:prstGeom prst="pi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20"/>
            <p:cNvSpPr/>
            <p:nvPr/>
          </p:nvSpPr>
          <p:spPr>
            <a:xfrm>
              <a:off x="8053560" y="612756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6731280" y="407664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469200" y="612936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900000" y="333360"/>
            <a:ext cx="72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     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7020000" y="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AutoShape 4"/>
          <p:cNvSpPr/>
          <p:nvPr/>
        </p:nvSpPr>
        <p:spPr>
          <a:xfrm>
            <a:off x="6443640" y="1339920"/>
            <a:ext cx="2087640" cy="118728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845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154560" y="1052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083280" y="245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6443640" y="2384280"/>
            <a:ext cx="142920" cy="1429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162920" y="24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260360" y="15192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2050920" y="1298520"/>
          <a:ext cx="19447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98520"/>
                    <a:ext cx="1944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2"/>
          <p:cNvGraphicFramePr/>
          <p:nvPr/>
        </p:nvGraphicFramePr>
        <p:xfrm>
          <a:off x="2195640" y="2205000"/>
          <a:ext cx="136836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05000"/>
                    <a:ext cx="13683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3"/>
          <p:cNvGraphicFramePr/>
          <p:nvPr/>
        </p:nvGraphicFramePr>
        <p:xfrm>
          <a:off x="1690560" y="2725560"/>
          <a:ext cx="30258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0560" y="2725560"/>
                    <a:ext cx="3025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4"/>
          <p:cNvGraphicFramePr/>
          <p:nvPr/>
        </p:nvGraphicFramePr>
        <p:xfrm>
          <a:off x="1979640" y="4516560"/>
          <a:ext cx="2808360" cy="7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16560"/>
                    <a:ext cx="2808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5"/>
          <p:cNvGraphicFramePr/>
          <p:nvPr/>
        </p:nvGraphicFramePr>
        <p:xfrm>
          <a:off x="1560600" y="3689280"/>
          <a:ext cx="472752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60600" y="3689280"/>
                    <a:ext cx="4727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6"/>
          <p:cNvGraphicFramePr/>
          <p:nvPr/>
        </p:nvGraphicFramePr>
        <p:xfrm>
          <a:off x="2225520" y="5581800"/>
          <a:ext cx="2892600" cy="87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5520" y="5581800"/>
                    <a:ext cx="28926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23:46:12Z</dcterms:created>
  <dc:creator/>
  <dc:description/>
  <dc:language>en-US</dc:language>
  <cp:lastModifiedBy>wxsw</cp:lastModifiedBy>
  <dcterms:modified xsi:type="dcterms:W3CDTF">2012-06-29T10:41:38Z</dcterms:modified>
  <cp:revision>3</cp:revision>
  <dc:subject/>
  <dc:title>幻灯片 1</dc:title>
</cp:coreProperties>
</file>